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14F09E-4155-4B25-8930-CBEA31343D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86C743-0EFD-46B1-A80B-8A69DF49B5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FBE36F-4C93-4442-9232-7DBF6D46DE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A4000F-14A5-4713-A026-DAEFE2E83C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C39641-AF79-4E33-BFB9-A2F84A7047E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154D04-1F20-40F7-B7B7-3A6643D652E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DF52E4-A9B6-427C-98BA-DD8181C5EAB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0B0A65-2FBE-433D-A707-D2EE3478B42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595948-1D66-4A7F-84F0-514BF6D7F8B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600AA4-814A-41FE-AFAF-B1E5D1FB251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3E95E2-8F55-4658-BB21-94A256D0D01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446202-CF1D-43C8-94D5-C0910480E0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B19A4A-434B-46A2-9CBF-B751D379E47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5CD283-6EE4-456E-9FE5-C7EDC05A314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AFECBB-BA35-4E1F-9E67-A4307506CB6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ED6A0D-B6C2-408C-84E2-9E37E7D8D6A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6E7BC9-2E00-4563-8F31-D4D2BC6EA570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19542-4C36-4BD4-B723-21341CB0FBF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B3A94-044A-49AD-9283-00B7F03280C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9E75D-2492-4545-8399-CB3734795FE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E2BAC-0773-47A5-8BB2-AB33CC2B273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8888A-405E-4D28-8B3D-4578EF4D8EC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5F50A4-14CA-4043-AAB5-86F794A3611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BF905-F97B-4786-88AD-EC1DE1A45AB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5EA32-1D8F-41D5-BC03-CA34C094941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711AD-3AB6-4D6B-844D-462B1CB89FE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F3C5B-CDE8-4A84-9C27-D70D90CC554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BB8AE-BE63-437B-B437-EFB5E408B4B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0769B-731E-4F4D-9178-37737728269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D3572-6F30-4D39-AEAB-A3B51E56E6CB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6BAFDF-D3E4-4B0B-ACE2-0E5EF258B6FA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35739C-B2D5-4FCC-B761-DF7136DBB804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FCB96C-DB9E-4F44-9811-544D6F817D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A5DD34-C7CF-4E16-8A75-F22C17336B60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2E081E-E712-4374-9404-40771497FF3B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DC35F8-65E6-447E-9222-1217D1FE851A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B07600-4A9E-4AB8-AA56-1035D129A95B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CE794E-20F1-4B89-813A-66B31FC828D1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4D47D4-F04D-400B-A37D-47AA62F199E4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F5752D-4AFE-40E0-BD4F-9C8A0FB8EFB2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304307-EE95-4D72-8AAC-E0BF11A9DDBD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4C4DAA-9C8E-4697-9150-205EDA9665AB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F9A74E-0C15-4B2E-B8BD-A32715677226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34AF74-AF97-4B7B-96DF-8F50B6E2F3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03EC23-3C77-4A73-AE35-D4E43A13425F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4D1C3B-F34B-49DA-8ECA-5D74669D7C32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FFB5BA-E6EC-422C-98F4-6EC57BFDD797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8389BF-FCFC-4B83-AC08-E5E761B6AA58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D53ECA-094B-4C79-83C8-33EC9C47F624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39F247-A3FF-4768-B794-20AA4CF28302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C2B43B-6355-485A-AB45-350C87DF4973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50C94C-730B-43A5-9F4A-A0604D4F4430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C6324D-9A46-40FC-8F8D-51149E3BF2C6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09CC48-48A1-4F6B-8506-723B7CC12C7B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E7DCA1-74BA-4B9A-AD82-904DC9BDAE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A94895-C078-466E-A01C-47F004025E7F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5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C572C0-1074-4E0D-B9C2-0E0E0CED1A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940F72-8BC8-42BF-A8CA-33D6229F71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2BA8A9-E6BA-41D4-A6E1-83FC8D82AB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7C9143-C32B-4D41-A358-23DB981D22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2221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4604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19280" indent="-182880">
              <a:spcBef>
                <a:spcPts val="601"/>
              </a:spcBef>
              <a:buClr>
                <a:srgbClr val="93a299"/>
              </a:buClr>
              <a:buSzPct val="8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99360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76480" indent="-1368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76480" indent="-13680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76480" indent="-13680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005680" y="23760"/>
            <a:ext cx="2937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alibri Bold"/>
                <a:ea typeface="Calibri Bol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0508F-9A3D-477F-B5E5-B15EA4DBF35D}" type="slidenum">
              <a:rPr b="0" lang="en-US" sz="1400" spc="-1" strike="noStrike">
                <a:solidFill>
                  <a:srgbClr val="ffffff"/>
                </a:solidFill>
                <a:latin typeface="Calibri Bold"/>
                <a:ea typeface="Calibri Bol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2221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4604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19280" indent="-182880">
              <a:spcBef>
                <a:spcPts val="601"/>
              </a:spcBef>
              <a:buClr>
                <a:srgbClr val="93a299"/>
              </a:buClr>
              <a:buSzPct val="8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99360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76480" indent="-1368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76480" indent="-13680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76480" indent="-13680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Num" idx="2"/>
          </p:nvPr>
        </p:nvSpPr>
        <p:spPr>
          <a:xfrm>
            <a:off x="8005680" y="23760"/>
            <a:ext cx="2937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alibri Bold"/>
                <a:ea typeface="Calibri Bol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D9028-8076-4AAE-8F42-7ECAA350A14D}" type="slidenum">
              <a:rPr b="0" lang="en-US" sz="1400" spc="-1" strike="noStrike">
                <a:solidFill>
                  <a:srgbClr val="ffffff"/>
                </a:solidFill>
                <a:latin typeface="Calibri Bold"/>
                <a:ea typeface="Calibri Bol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53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220680"/>
            <a:ext cx="9144000" cy="228600"/>
            <a:chOff x="0" y="220680"/>
            <a:chExt cx="9144000" cy="228600"/>
          </a:xfrm>
        </p:grpSpPr>
        <p:sp>
          <p:nvSpPr>
            <p:cNvPr id="79" name=""/>
            <p:cNvSpPr/>
            <p:nvPr/>
          </p:nvSpPr>
          <p:spPr>
            <a:xfrm>
              <a:off x="0" y="220680"/>
              <a:ext cx="914400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292934"/>
                </a:solidFill>
                <a:latin typeface="Calibri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0" y="220680"/>
              <a:ext cx="9144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292934"/>
                </a:solidFill>
                <a:latin typeface="Calibri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0" y="0"/>
            <a:ext cx="9144000" cy="365040"/>
            <a:chOff x="0" y="0"/>
            <a:chExt cx="9144000" cy="365040"/>
          </a:xfrm>
        </p:grpSpPr>
        <p:sp>
          <p:nvSpPr>
            <p:cNvPr id="82" name=""/>
            <p:cNvSpPr/>
            <p:nvPr/>
          </p:nvSpPr>
          <p:spPr>
            <a:xfrm>
              <a:off x="0" y="0"/>
              <a:ext cx="9144000" cy="365040"/>
            </a:xfrm>
            <a:prstGeom prst="rect">
              <a:avLst/>
            </a:prstGeom>
            <a:solidFill>
              <a:srgbClr val="93a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292934"/>
                </a:solidFill>
                <a:latin typeface="Calibri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0"/>
              <a:ext cx="914400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292934"/>
                </a:solidFill>
                <a:latin typeface="Calibri"/>
              </a:endParaRPr>
            </a:p>
          </p:txBody>
        </p:sp>
      </p:grpSp>
      <p:sp>
        <p:nvSpPr>
          <p:cNvPr id="84" name=""/>
          <p:cNvSpPr/>
          <p:nvPr/>
        </p:nvSpPr>
        <p:spPr>
          <a:xfrm>
            <a:off x="731880" y="4599000"/>
            <a:ext cx="7848720" cy="1440"/>
          </a:xfrm>
          <a:prstGeom prst="line">
            <a:avLst/>
          </a:prstGeom>
          <a:ln w="25560">
            <a:solidFill>
              <a:srgbClr val="f3f2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3f2d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3f2dc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2221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4604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719280" indent="-182880">
              <a:spcBef>
                <a:spcPts val="601"/>
              </a:spcBef>
              <a:buClr>
                <a:srgbClr val="93a299"/>
              </a:buClr>
              <a:buSzPct val="8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99360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176480" indent="-1368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176480" indent="-136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176480" indent="-136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3"/>
          </p:nvPr>
        </p:nvSpPr>
        <p:spPr>
          <a:xfrm>
            <a:off x="8005680" y="23760"/>
            <a:ext cx="2937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alibri Bold"/>
                <a:ea typeface="Calibri Bol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C00B6-6EE7-433F-9A3F-0A0D3FDB66D9}" type="slidenum">
              <a:rPr b="0" lang="en-US" sz="1400" spc="-1" strike="noStrike">
                <a:solidFill>
                  <a:srgbClr val="ffffff"/>
                </a:solidFill>
                <a:latin typeface="Calibri Bold"/>
                <a:ea typeface="Calibri Bol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"/>
          <p:cNvGrpSpPr/>
          <p:nvPr/>
        </p:nvGrpSpPr>
        <p:grpSpPr>
          <a:xfrm>
            <a:off x="0" y="220680"/>
            <a:ext cx="9144000" cy="228600"/>
            <a:chOff x="0" y="220680"/>
            <a:chExt cx="9144000" cy="228600"/>
          </a:xfrm>
        </p:grpSpPr>
        <p:sp>
          <p:nvSpPr>
            <p:cNvPr id="125" name=""/>
            <p:cNvSpPr/>
            <p:nvPr/>
          </p:nvSpPr>
          <p:spPr>
            <a:xfrm>
              <a:off x="0" y="220680"/>
              <a:ext cx="914400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292934"/>
                </a:solidFill>
                <a:latin typeface="Calibri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0" y="220680"/>
              <a:ext cx="9144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292934"/>
                </a:solidFill>
                <a:latin typeface="Calibri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0" y="0"/>
            <a:ext cx="9144000" cy="365040"/>
            <a:chOff x="0" y="0"/>
            <a:chExt cx="9144000" cy="365040"/>
          </a:xfrm>
        </p:grpSpPr>
        <p:sp>
          <p:nvSpPr>
            <p:cNvPr id="128" name=""/>
            <p:cNvSpPr/>
            <p:nvPr/>
          </p:nvSpPr>
          <p:spPr>
            <a:xfrm>
              <a:off x="0" y="0"/>
              <a:ext cx="9144000" cy="365040"/>
            </a:xfrm>
            <a:prstGeom prst="rect">
              <a:avLst/>
            </a:prstGeom>
            <a:solidFill>
              <a:srgbClr val="93a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292934"/>
                </a:solidFill>
                <a:latin typeface="Calibri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0" y="0"/>
              <a:ext cx="914400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292934"/>
                </a:solidFill>
                <a:latin typeface="Calibri"/>
              </a:endParaRPr>
            </a:p>
          </p:txBody>
        </p:sp>
      </p:grpSp>
      <p:sp>
        <p:nvSpPr>
          <p:cNvPr id="130" name=""/>
          <p:cNvSpPr/>
          <p:nvPr/>
        </p:nvSpPr>
        <p:spPr>
          <a:xfrm flipH="1">
            <a:off x="4570560" y="1692360"/>
            <a:ext cx="2880" cy="4708440"/>
          </a:xfrm>
          <a:prstGeom prst="line">
            <a:avLst/>
          </a:prstGeom>
          <a:ln w="25560">
            <a:solidFill>
              <a:srgbClr val="d25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2221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4604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19280" indent="-182880">
              <a:spcBef>
                <a:spcPts val="601"/>
              </a:spcBef>
              <a:buClr>
                <a:srgbClr val="93a299"/>
              </a:buClr>
              <a:buSzPct val="8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99360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76480" indent="-1368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76480" indent="-13680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76480" indent="-13680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sldNum" idx="4"/>
          </p:nvPr>
        </p:nvSpPr>
        <p:spPr>
          <a:xfrm>
            <a:off x="8005680" y="23760"/>
            <a:ext cx="2937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alibri Bold"/>
                <a:ea typeface="Calibri Bol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03CE0-931D-4A6F-8F2A-99973C7A330D}" type="slidenum">
              <a:rPr b="0" lang="en-US" sz="1400" spc="-1" strike="noStrike">
                <a:solidFill>
                  <a:srgbClr val="ffffff"/>
                </a:solidFill>
                <a:latin typeface="Calibri Bold"/>
                <a:ea typeface="Calibri Bol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0" name=""/>
          <p:cNvGrpSpPr/>
          <p:nvPr/>
        </p:nvGrpSpPr>
        <p:grpSpPr>
          <a:xfrm>
            <a:off x="0" y="220680"/>
            <a:ext cx="9144000" cy="228600"/>
            <a:chOff x="0" y="220680"/>
            <a:chExt cx="9144000" cy="228600"/>
          </a:xfrm>
        </p:grpSpPr>
        <p:sp>
          <p:nvSpPr>
            <p:cNvPr id="171" name=""/>
            <p:cNvSpPr/>
            <p:nvPr/>
          </p:nvSpPr>
          <p:spPr>
            <a:xfrm>
              <a:off x="0" y="220680"/>
              <a:ext cx="914400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292934"/>
                </a:solidFill>
                <a:latin typeface="Calibri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0" y="220680"/>
              <a:ext cx="9144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292934"/>
                </a:solidFill>
                <a:latin typeface="Calibri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0" y="0"/>
            <a:ext cx="9144000" cy="365040"/>
            <a:chOff x="0" y="0"/>
            <a:chExt cx="9144000" cy="365040"/>
          </a:xfrm>
        </p:grpSpPr>
        <p:sp>
          <p:nvSpPr>
            <p:cNvPr id="174" name=""/>
            <p:cNvSpPr/>
            <p:nvPr/>
          </p:nvSpPr>
          <p:spPr>
            <a:xfrm>
              <a:off x="0" y="0"/>
              <a:ext cx="9144000" cy="365040"/>
            </a:xfrm>
            <a:prstGeom prst="rect">
              <a:avLst/>
            </a:prstGeom>
            <a:solidFill>
              <a:srgbClr val="93a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292934"/>
                </a:solidFill>
                <a:latin typeface="Calibri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0" y="0"/>
              <a:ext cx="914400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292934"/>
                </a:solidFill>
                <a:latin typeface="Calibri"/>
              </a:endParaRPr>
            </a:p>
          </p:txBody>
        </p:sp>
      </p:grpSp>
      <p:sp>
        <p:nvSpPr>
          <p:cNvPr id="176" name=""/>
          <p:cNvSpPr/>
          <p:nvPr/>
        </p:nvSpPr>
        <p:spPr>
          <a:xfrm flipH="1">
            <a:off x="2774520" y="792000"/>
            <a:ext cx="1800" cy="5578560"/>
          </a:xfrm>
          <a:prstGeom prst="line">
            <a:avLst/>
          </a:prstGeom>
          <a:ln w="25560">
            <a:solidFill>
              <a:srgbClr val="d25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2221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4604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19280" indent="-182880">
              <a:spcBef>
                <a:spcPts val="601"/>
              </a:spcBef>
              <a:buClr>
                <a:srgbClr val="93a299"/>
              </a:buClr>
              <a:buSzPct val="8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99360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76480" indent="-1368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76480" indent="-13680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76480" indent="-13680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sldNum" idx="5"/>
          </p:nvPr>
        </p:nvSpPr>
        <p:spPr>
          <a:xfrm>
            <a:off x="8005680" y="23760"/>
            <a:ext cx="2937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alibri Bold"/>
                <a:ea typeface="Calibri Bol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8BF74-45EF-45BB-A145-176185C38CCE}" type="slidenum">
              <a:rPr b="0" lang="en-US" sz="1400" spc="-1" strike="noStrike">
                <a:solidFill>
                  <a:srgbClr val="ffffff"/>
                </a:solidFill>
                <a:latin typeface="Calibri Bold"/>
                <a:ea typeface="Calibri Bol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6" name=""/>
          <p:cNvGrpSpPr/>
          <p:nvPr/>
        </p:nvGrpSpPr>
        <p:grpSpPr>
          <a:xfrm>
            <a:off x="0" y="220680"/>
            <a:ext cx="9144000" cy="228600"/>
            <a:chOff x="0" y="220680"/>
            <a:chExt cx="9144000" cy="228600"/>
          </a:xfrm>
        </p:grpSpPr>
        <p:sp>
          <p:nvSpPr>
            <p:cNvPr id="217" name=""/>
            <p:cNvSpPr/>
            <p:nvPr/>
          </p:nvSpPr>
          <p:spPr>
            <a:xfrm>
              <a:off x="0" y="220680"/>
              <a:ext cx="914400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292934"/>
                </a:solidFill>
                <a:latin typeface="Calibri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0" y="220680"/>
              <a:ext cx="9144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292934"/>
                </a:solidFill>
                <a:latin typeface="Calibri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0" y="0"/>
            <a:ext cx="9144000" cy="365040"/>
            <a:chOff x="0" y="0"/>
            <a:chExt cx="9144000" cy="365040"/>
          </a:xfrm>
        </p:grpSpPr>
        <p:sp>
          <p:nvSpPr>
            <p:cNvPr id="220" name=""/>
            <p:cNvSpPr/>
            <p:nvPr/>
          </p:nvSpPr>
          <p:spPr>
            <a:xfrm>
              <a:off x="0" y="0"/>
              <a:ext cx="9144000" cy="365040"/>
            </a:xfrm>
            <a:prstGeom prst="rect">
              <a:avLst/>
            </a:prstGeom>
            <a:solidFill>
              <a:srgbClr val="93a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292934"/>
                </a:solidFill>
                <a:latin typeface="Calibri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0" y="0"/>
              <a:ext cx="914400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292934"/>
                </a:solidFill>
                <a:latin typeface="Calibri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685800" y="3398760"/>
            <a:ext cx="7848720" cy="1800"/>
          </a:xfrm>
          <a:prstGeom prst="line">
            <a:avLst/>
          </a:prstGeom>
          <a:ln w="25560">
            <a:solidFill>
              <a:srgbClr val="d25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8005680" y="23760"/>
            <a:ext cx="2937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1BF04-3216-4BFF-BD14-FAAA7DE8B032}" type="slidenum">
              <a:rPr b="0" lang="en-US" sz="1400" spc="-1" strike="noStrike">
                <a:solidFill>
                  <a:srgbClr val="ffffff"/>
                </a:solidFill>
                <a:latin typeface="Calibri Bold"/>
                <a:ea typeface="Calibri Bol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848720" cy="32986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b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d2533c"/>
                </a:solidFill>
                <a:latin typeface="Arial"/>
              </a:rPr>
              <a:t>TTCN-3 CONFORMANCE TEST SUITE STF 433 STATUS REPORT</a:t>
            </a:r>
            <a:endParaRPr b="0" lang="en-US" sz="49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3504960"/>
            <a:ext cx="6400800" cy="33526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9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7576e"/>
                </a:solidFill>
                <a:latin typeface="Arial"/>
              </a:rPr>
              <a:t>Andras Kovacs / BroadBi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39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7576e"/>
                </a:solidFill>
                <a:latin typeface="Arial"/>
              </a:rPr>
              <a:t>Nikolay Pakulin / ISPRAS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39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7576e"/>
                </a:solidFill>
                <a:latin typeface="Arial"/>
              </a:rPr>
              <a:t>Bogdan Stanca-Kaposta / TestingTech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39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6" name=""/>
          <p:cNvGrpSpPr/>
          <p:nvPr/>
        </p:nvGrpSpPr>
        <p:grpSpPr>
          <a:xfrm>
            <a:off x="0" y="220680"/>
            <a:ext cx="9144000" cy="228600"/>
            <a:chOff x="0" y="220680"/>
            <a:chExt cx="9144000" cy="228600"/>
          </a:xfrm>
        </p:grpSpPr>
        <p:sp>
          <p:nvSpPr>
            <p:cNvPr id="227" name=""/>
            <p:cNvSpPr/>
            <p:nvPr/>
          </p:nvSpPr>
          <p:spPr>
            <a:xfrm>
              <a:off x="0" y="220680"/>
              <a:ext cx="914400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292934"/>
                </a:solidFill>
                <a:latin typeface="Calibri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0" y="220680"/>
              <a:ext cx="9144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292934"/>
                </a:solidFill>
                <a:latin typeface="Calibri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0" y="0"/>
            <a:ext cx="9144000" cy="365040"/>
            <a:chOff x="0" y="0"/>
            <a:chExt cx="9144000" cy="365040"/>
          </a:xfrm>
        </p:grpSpPr>
        <p:sp>
          <p:nvSpPr>
            <p:cNvPr id="230" name=""/>
            <p:cNvSpPr/>
            <p:nvPr/>
          </p:nvSpPr>
          <p:spPr>
            <a:xfrm>
              <a:off x="0" y="0"/>
              <a:ext cx="9144000" cy="365040"/>
            </a:xfrm>
            <a:prstGeom prst="rect">
              <a:avLst/>
            </a:prstGeom>
            <a:solidFill>
              <a:srgbClr val="93a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292934"/>
                </a:solidFill>
                <a:latin typeface="Calibri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0" y="0"/>
              <a:ext cx="914400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292934"/>
                </a:solidFill>
                <a:latin typeface="Calibri"/>
              </a:endParaRPr>
            </a:p>
          </p:txBody>
        </p:sp>
      </p:grpSp>
      <p:sp>
        <p:nvSpPr>
          <p:cNvPr id="232" name=""/>
          <p:cNvSpPr txBox="1"/>
          <p:nvPr/>
        </p:nvSpPr>
        <p:spPr>
          <a:xfrm>
            <a:off x="8005680" y="23760"/>
            <a:ext cx="2937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AB2EC-D839-4ADE-92BA-8E77497272D1}" type="slidenum">
              <a:rPr b="0" lang="en-US" sz="1400" spc="-1" strike="noStrike">
                <a:solidFill>
                  <a:srgbClr val="ffffff"/>
                </a:solidFill>
                <a:latin typeface="Calibri Bold"/>
                <a:ea typeface="Calibri Bol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ontents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22212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ssion plan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22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22212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urrent status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22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22212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Work still ongoing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22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22212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Issues reported as CRs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22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22212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onclusion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5" name=""/>
          <p:cNvGrpSpPr/>
          <p:nvPr/>
        </p:nvGrpSpPr>
        <p:grpSpPr>
          <a:xfrm>
            <a:off x="0" y="220680"/>
            <a:ext cx="9144000" cy="228600"/>
            <a:chOff x="0" y="220680"/>
            <a:chExt cx="9144000" cy="228600"/>
          </a:xfrm>
        </p:grpSpPr>
        <p:sp>
          <p:nvSpPr>
            <p:cNvPr id="236" name=""/>
            <p:cNvSpPr/>
            <p:nvPr/>
          </p:nvSpPr>
          <p:spPr>
            <a:xfrm>
              <a:off x="0" y="220680"/>
              <a:ext cx="914400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292934"/>
                </a:solidFill>
                <a:latin typeface="Calibri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0" y="220680"/>
              <a:ext cx="9144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292934"/>
                </a:solidFill>
                <a:latin typeface="Calibri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0" y="0"/>
            <a:ext cx="9144000" cy="365040"/>
            <a:chOff x="0" y="0"/>
            <a:chExt cx="9144000" cy="365040"/>
          </a:xfrm>
        </p:grpSpPr>
        <p:sp>
          <p:nvSpPr>
            <p:cNvPr id="239" name=""/>
            <p:cNvSpPr/>
            <p:nvPr/>
          </p:nvSpPr>
          <p:spPr>
            <a:xfrm>
              <a:off x="0" y="0"/>
              <a:ext cx="9144000" cy="365040"/>
            </a:xfrm>
            <a:prstGeom prst="rect">
              <a:avLst/>
            </a:prstGeom>
            <a:solidFill>
              <a:srgbClr val="93a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292934"/>
                </a:solidFill>
                <a:latin typeface="Calibri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0" y="0"/>
              <a:ext cx="914400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292934"/>
                </a:solidFill>
                <a:latin typeface="Calibri"/>
              </a:endParaRPr>
            </a:p>
          </p:txBody>
        </p:sp>
      </p:grpSp>
      <p:sp>
        <p:nvSpPr>
          <p:cNvPr id="241" name=""/>
          <p:cNvSpPr txBox="1"/>
          <p:nvPr/>
        </p:nvSpPr>
        <p:spPr>
          <a:xfrm>
            <a:off x="8005680" y="23760"/>
            <a:ext cx="2937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F9F6F-D93C-4BAD-B376-259A2BDD7369}" type="slidenum">
              <a:rPr b="0" lang="en-US" sz="1400" spc="-1" strike="noStrike">
                <a:solidFill>
                  <a:srgbClr val="ffffff"/>
                </a:solidFill>
                <a:latin typeface="Calibri Bold"/>
                <a:ea typeface="Calibri Bol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Session plan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22212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November: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96800" indent="-182520">
              <a:lnSpc>
                <a:spcPct val="100000"/>
              </a:lnSpc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Arial"/>
              </a:rPr>
              <a:t>32 days of work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lvl="1" marL="496800" indent="-182520">
              <a:lnSpc>
                <a:spcPct val="100000"/>
              </a:lnSpc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Arial"/>
              </a:rPr>
              <a:t>1 week session at ETSI in Sophia-Antipolis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22212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December: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96800" indent="-182520">
              <a:lnSpc>
                <a:spcPct val="100000"/>
              </a:lnSpc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Arial"/>
              </a:rPr>
              <a:t>17 days of work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22212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January: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96800" indent="-182520">
              <a:lnSpc>
                <a:spcPct val="100000"/>
              </a:lnSpc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Arial"/>
              </a:rPr>
              <a:t>21 days of work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lvl="1" marL="496800" indent="-182520">
              <a:lnSpc>
                <a:spcPct val="100000"/>
              </a:lnSpc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Arial"/>
              </a:rPr>
              <a:t>1 week session at TestingTech in Berlin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22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22212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e scheduled STF433 sessions are over now!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4" name=""/>
          <p:cNvGrpSpPr/>
          <p:nvPr/>
        </p:nvGrpSpPr>
        <p:grpSpPr>
          <a:xfrm>
            <a:off x="0" y="220680"/>
            <a:ext cx="9144000" cy="228600"/>
            <a:chOff x="0" y="220680"/>
            <a:chExt cx="9144000" cy="228600"/>
          </a:xfrm>
        </p:grpSpPr>
        <p:sp>
          <p:nvSpPr>
            <p:cNvPr id="245" name=""/>
            <p:cNvSpPr/>
            <p:nvPr/>
          </p:nvSpPr>
          <p:spPr>
            <a:xfrm>
              <a:off x="0" y="220680"/>
              <a:ext cx="914400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292934"/>
                </a:solidFill>
                <a:latin typeface="Calibri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0" y="220680"/>
              <a:ext cx="9144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292934"/>
                </a:solidFill>
                <a:latin typeface="Calibri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0" y="0"/>
            <a:ext cx="9144000" cy="365040"/>
            <a:chOff x="0" y="0"/>
            <a:chExt cx="9144000" cy="365040"/>
          </a:xfrm>
        </p:grpSpPr>
        <p:sp>
          <p:nvSpPr>
            <p:cNvPr id="248" name=""/>
            <p:cNvSpPr/>
            <p:nvPr/>
          </p:nvSpPr>
          <p:spPr>
            <a:xfrm>
              <a:off x="0" y="0"/>
              <a:ext cx="9144000" cy="365040"/>
            </a:xfrm>
            <a:prstGeom prst="rect">
              <a:avLst/>
            </a:prstGeom>
            <a:solidFill>
              <a:srgbClr val="93a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292934"/>
                </a:solidFill>
                <a:latin typeface="Calibri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0" y="0"/>
              <a:ext cx="914400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292934"/>
                </a:solidFill>
                <a:latin typeface="Calibri"/>
              </a:endParaRPr>
            </a:p>
          </p:txBody>
        </p:sp>
      </p:grpSp>
      <p:sp>
        <p:nvSpPr>
          <p:cNvPr id="250" name=""/>
          <p:cNvSpPr txBox="1"/>
          <p:nvPr/>
        </p:nvSpPr>
        <p:spPr>
          <a:xfrm>
            <a:off x="8005680" y="23760"/>
            <a:ext cx="2937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BDCDC-6943-4A8B-8E00-E078195FD746}" type="slidenum">
              <a:rPr b="0" lang="en-US" sz="1400" spc="-1" strike="noStrike">
                <a:solidFill>
                  <a:srgbClr val="ffffff"/>
                </a:solidFill>
                <a:latin typeface="Calibri Bold"/>
                <a:ea typeface="Calibri Bol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urrent status (1/3)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22212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Drafts are available: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96800" indent="-182520">
              <a:lnSpc>
                <a:spcPct val="100000"/>
              </a:lnSpc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Arial"/>
              </a:rPr>
              <a:t>ICS document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lvl="1" marL="496800" indent="-182520">
              <a:lnSpc>
                <a:spcPct val="100000"/>
              </a:lnSpc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Arial"/>
              </a:rPr>
              <a:t>TSS&amp;TP document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lvl="1" marL="496800" indent="-182520">
              <a:lnSpc>
                <a:spcPct val="100000"/>
              </a:lnSpc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Arial"/>
              </a:rPr>
              <a:t>ATS&amp;IXIT document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lvl="1" marL="496800" indent="-182520">
              <a:lnSpc>
                <a:spcPct val="100000"/>
              </a:lnSpc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Arial"/>
              </a:rPr>
              <a:t>ATS attachment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22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22212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Attached as contributions to this MTS meeting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96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22212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Drafts are not yet final…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96800" indent="-182520">
              <a:lnSpc>
                <a:spcPct val="100000"/>
              </a:lnSpc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Arial"/>
              </a:rPr>
              <a:t>all the planned test cases have been already written, but some bug-fixes will be still done on a voluntary basis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3" name=""/>
          <p:cNvGrpSpPr/>
          <p:nvPr/>
        </p:nvGrpSpPr>
        <p:grpSpPr>
          <a:xfrm>
            <a:off x="0" y="220680"/>
            <a:ext cx="9144000" cy="228600"/>
            <a:chOff x="0" y="220680"/>
            <a:chExt cx="9144000" cy="228600"/>
          </a:xfrm>
        </p:grpSpPr>
        <p:sp>
          <p:nvSpPr>
            <p:cNvPr id="254" name=""/>
            <p:cNvSpPr/>
            <p:nvPr/>
          </p:nvSpPr>
          <p:spPr>
            <a:xfrm>
              <a:off x="0" y="220680"/>
              <a:ext cx="914400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292934"/>
                </a:solidFill>
                <a:latin typeface="Calibri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0" y="220680"/>
              <a:ext cx="9144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292934"/>
                </a:solidFill>
                <a:latin typeface="Calibri"/>
              </a:endParaRPr>
            </a:p>
          </p:txBody>
        </p:sp>
      </p:grpSp>
      <p:grpSp>
        <p:nvGrpSpPr>
          <p:cNvPr id="256" name=""/>
          <p:cNvGrpSpPr/>
          <p:nvPr/>
        </p:nvGrpSpPr>
        <p:grpSpPr>
          <a:xfrm>
            <a:off x="0" y="0"/>
            <a:ext cx="9144000" cy="365040"/>
            <a:chOff x="0" y="0"/>
            <a:chExt cx="9144000" cy="365040"/>
          </a:xfrm>
        </p:grpSpPr>
        <p:sp>
          <p:nvSpPr>
            <p:cNvPr id="257" name=""/>
            <p:cNvSpPr/>
            <p:nvPr/>
          </p:nvSpPr>
          <p:spPr>
            <a:xfrm>
              <a:off x="0" y="0"/>
              <a:ext cx="9144000" cy="365040"/>
            </a:xfrm>
            <a:prstGeom prst="rect">
              <a:avLst/>
            </a:prstGeom>
            <a:solidFill>
              <a:srgbClr val="93a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292934"/>
                </a:solidFill>
                <a:latin typeface="Calibri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0" y="0"/>
              <a:ext cx="914400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292934"/>
                </a:solidFill>
                <a:latin typeface="Calibri"/>
              </a:endParaRPr>
            </a:p>
          </p:txBody>
        </p:sp>
      </p:grpSp>
      <p:sp>
        <p:nvSpPr>
          <p:cNvPr id="259" name=""/>
          <p:cNvSpPr txBox="1"/>
          <p:nvPr/>
        </p:nvSpPr>
        <p:spPr>
          <a:xfrm>
            <a:off x="8005680" y="23760"/>
            <a:ext cx="2937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260A4-B24C-4F6E-BD25-E8C151CBDC78}" type="slidenum">
              <a:rPr b="0" lang="en-US" sz="1400" spc="-1" strike="noStrike">
                <a:solidFill>
                  <a:srgbClr val="ffffff"/>
                </a:solidFill>
                <a:latin typeface="Calibri Bold"/>
                <a:ea typeface="Calibri Bol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urrent status (2/3)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 fontScale="99000"/>
          </a:bodyPr>
          <a:p>
            <a:pPr marL="219600" indent="-18036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Time spent on the following: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lvl="1" marL="491760" indent="-180360">
              <a:lnSpc>
                <a:spcPct val="100000"/>
              </a:lnSpc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New test case development (extending ATS from STF409)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91760" indent="-180360">
              <a:lnSpc>
                <a:spcPct val="100000"/>
              </a:lnSpc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Validation and documentation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62120" indent="-180360">
              <a:lnSpc>
                <a:spcPct val="100000"/>
              </a:lnSpc>
              <a:spcBef>
                <a:spcPts val="400"/>
              </a:spcBef>
              <a:buClr>
                <a:srgbClr val="93a299"/>
              </a:buClr>
              <a:buSzPct val="8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Arial"/>
              </a:rPr>
              <a:t>Validation with two independent TTCN-3 tools (TTWorkbench + Testcast).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lvl="2" marL="762120" indent="-180360">
              <a:lnSpc>
                <a:spcPct val="100000"/>
              </a:lnSpc>
              <a:spcBef>
                <a:spcPts val="400"/>
              </a:spcBef>
              <a:buClr>
                <a:srgbClr val="93a299"/>
              </a:buClr>
              <a:buSzPct val="8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Arial"/>
              </a:rPr>
              <a:t>Development of tooling for automated test execution for TestCast and TTworkbench.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lvl="3" marL="1033920" indent="-180720">
              <a:lnSpc>
                <a:spcPct val="100000"/>
              </a:lnSpc>
              <a:spcBef>
                <a:spcPts val="400"/>
              </a:spcBef>
              <a:buClr>
                <a:srgbClr val="93a2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34"/>
                </a:solidFill>
                <a:latin typeface="Arial"/>
              </a:rPr>
              <a:t>Can be adapted by tool providers also for test automation!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lvl="2" marL="762120" indent="-180360">
              <a:lnSpc>
                <a:spcPct val="100000"/>
              </a:lnSpc>
              <a:spcBef>
                <a:spcPts val="400"/>
              </a:spcBef>
              <a:buClr>
                <a:srgbClr val="93a299"/>
              </a:buClr>
              <a:buSzPct val="8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Arial"/>
              </a:rPr>
              <a:t>Going through noticed issues and fixing them.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lvl="3" marL="1033920" indent="-180720">
              <a:lnSpc>
                <a:spcPct val="100000"/>
              </a:lnSpc>
              <a:spcBef>
                <a:spcPts val="400"/>
              </a:spcBef>
              <a:buClr>
                <a:srgbClr val="292934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34"/>
                </a:solidFill>
                <a:latin typeface="Arial"/>
              </a:rPr>
              <a:t>Core standard related issues communicated by Change Requests through the ETSI Mantis tool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lvl="3" marL="1033920" indent="-180720">
              <a:lnSpc>
                <a:spcPct val="100000"/>
              </a:lnSpc>
              <a:spcBef>
                <a:spcPts val="400"/>
              </a:spcBef>
              <a:buClr>
                <a:srgbClr val="292934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34"/>
                </a:solidFill>
                <a:latin typeface="Arial"/>
              </a:rPr>
              <a:t>Compiler related issues discussed individually with the supporting vendors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lvl="2" marL="762120" indent="-180360">
              <a:lnSpc>
                <a:spcPct val="100000"/>
              </a:lnSpc>
              <a:spcBef>
                <a:spcPts val="400"/>
              </a:spcBef>
              <a:buClr>
                <a:srgbClr val="93a299"/>
              </a:buClr>
              <a:buSzPct val="8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Arial"/>
              </a:rPr>
              <a:t>Creation of documents.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2" name=""/>
          <p:cNvGrpSpPr/>
          <p:nvPr/>
        </p:nvGrpSpPr>
        <p:grpSpPr>
          <a:xfrm>
            <a:off x="0" y="220680"/>
            <a:ext cx="9144000" cy="228600"/>
            <a:chOff x="0" y="220680"/>
            <a:chExt cx="9144000" cy="228600"/>
          </a:xfrm>
        </p:grpSpPr>
        <p:sp>
          <p:nvSpPr>
            <p:cNvPr id="263" name=""/>
            <p:cNvSpPr/>
            <p:nvPr/>
          </p:nvSpPr>
          <p:spPr>
            <a:xfrm>
              <a:off x="0" y="220680"/>
              <a:ext cx="914400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292934"/>
                </a:solidFill>
                <a:latin typeface="Calibri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0" y="220680"/>
              <a:ext cx="9144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292934"/>
                </a:solidFill>
                <a:latin typeface="Calibri"/>
              </a:endParaRPr>
            </a:p>
          </p:txBody>
        </p:sp>
      </p:grpSp>
      <p:grpSp>
        <p:nvGrpSpPr>
          <p:cNvPr id="265" name=""/>
          <p:cNvGrpSpPr/>
          <p:nvPr/>
        </p:nvGrpSpPr>
        <p:grpSpPr>
          <a:xfrm>
            <a:off x="0" y="0"/>
            <a:ext cx="9144000" cy="365040"/>
            <a:chOff x="0" y="0"/>
            <a:chExt cx="9144000" cy="365040"/>
          </a:xfrm>
        </p:grpSpPr>
        <p:sp>
          <p:nvSpPr>
            <p:cNvPr id="266" name=""/>
            <p:cNvSpPr/>
            <p:nvPr/>
          </p:nvSpPr>
          <p:spPr>
            <a:xfrm>
              <a:off x="0" y="0"/>
              <a:ext cx="9144000" cy="365040"/>
            </a:xfrm>
            <a:prstGeom prst="rect">
              <a:avLst/>
            </a:prstGeom>
            <a:solidFill>
              <a:srgbClr val="93a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292934"/>
                </a:solidFill>
                <a:latin typeface="Calibri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0" y="0"/>
              <a:ext cx="914400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292934"/>
                </a:solidFill>
                <a:latin typeface="Calibri"/>
              </a:endParaRPr>
            </a:p>
          </p:txBody>
        </p:sp>
      </p:grpSp>
      <p:sp>
        <p:nvSpPr>
          <p:cNvPr id="268" name=""/>
          <p:cNvSpPr txBox="1"/>
          <p:nvPr/>
        </p:nvSpPr>
        <p:spPr>
          <a:xfrm>
            <a:off x="8005680" y="23760"/>
            <a:ext cx="2937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0543F-3A86-4419-84C7-8012C5B31840}" type="slidenum">
              <a:rPr b="0" lang="en-US" sz="1400" spc="-1" strike="noStrike">
                <a:solidFill>
                  <a:srgbClr val="ffffff"/>
                </a:solidFill>
                <a:latin typeface="Calibri Bold"/>
                <a:ea typeface="Calibri Bol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urrent status (3/3)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222120" indent="-182520">
              <a:lnSpc>
                <a:spcPct val="8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34"/>
                </a:solidFill>
                <a:latin typeface="Arial"/>
              </a:rPr>
              <a:t>ATS validated with 2 tools:</a:t>
            </a:r>
            <a:endParaRPr b="0" lang="en-US" sz="2200" spc="-1" strike="noStrike">
              <a:solidFill>
                <a:srgbClr val="292934"/>
              </a:solidFill>
              <a:latin typeface="Arial"/>
            </a:endParaRPr>
          </a:p>
          <a:p>
            <a:pPr lvl="1" marL="496800" indent="-182520">
              <a:lnSpc>
                <a:spcPct val="80000"/>
              </a:lnSpc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92934"/>
                </a:solidFill>
                <a:latin typeface="Arial Bold"/>
                <a:ea typeface="Arial Bold"/>
              </a:rPr>
              <a:t>TTworkbench: compile-time and execution.</a:t>
            </a:r>
            <a:endParaRPr b="0" lang="en-US" sz="1900" spc="-1" strike="noStrike">
              <a:solidFill>
                <a:srgbClr val="292934"/>
              </a:solidFill>
              <a:latin typeface="Arial"/>
            </a:endParaRPr>
          </a:p>
          <a:p>
            <a:pPr lvl="1" marL="496800" indent="-182520">
              <a:lnSpc>
                <a:spcPct val="80000"/>
              </a:lnSpc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92934"/>
                </a:solidFill>
                <a:latin typeface="Arial Bold"/>
                <a:ea typeface="Arial Bold"/>
              </a:rPr>
              <a:t>TestCast: compile-time and execution.</a:t>
            </a:r>
            <a:endParaRPr b="0" lang="en-US" sz="1900" spc="-1" strike="noStrike">
              <a:solidFill>
                <a:srgbClr val="292934"/>
              </a:solidFill>
              <a:latin typeface="Arial"/>
            </a:endParaRPr>
          </a:p>
          <a:p>
            <a:pPr marL="22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34"/>
              </a:solidFill>
              <a:latin typeface="Arial"/>
            </a:endParaRPr>
          </a:p>
          <a:p>
            <a:pPr marL="222120" indent="-182520">
              <a:lnSpc>
                <a:spcPct val="8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34"/>
                </a:solidFill>
                <a:latin typeface="Arial"/>
              </a:rPr>
              <a:t>Total number of conformance tests is </a:t>
            </a:r>
            <a:r>
              <a:rPr b="0" lang="en-US" sz="2200" spc="-1" strike="noStrike">
                <a:solidFill>
                  <a:srgbClr val="292934"/>
                </a:solidFill>
                <a:latin typeface="Arial Bold"/>
                <a:ea typeface="Arial Bold"/>
              </a:rPr>
              <a:t>1039</a:t>
            </a:r>
            <a:r>
              <a:rPr b="0" lang="en-US" sz="2200" spc="-1" strike="noStrike">
                <a:solidFill>
                  <a:srgbClr val="292934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292934"/>
              </a:solidFill>
              <a:latin typeface="Arial"/>
            </a:endParaRPr>
          </a:p>
          <a:p>
            <a:pPr lvl="1" marL="496800" indent="-182520">
              <a:lnSpc>
                <a:spcPct val="80000"/>
              </a:lnSpc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92934"/>
                </a:solidFill>
                <a:latin typeface="Arial"/>
              </a:rPr>
              <a:t>Majority of the core standard sections have been now covered</a:t>
            </a:r>
            <a:endParaRPr b="0" lang="en-US" sz="1900" spc="-1" strike="noStrike">
              <a:solidFill>
                <a:srgbClr val="292934"/>
              </a:solidFill>
              <a:latin typeface="Arial"/>
            </a:endParaRPr>
          </a:p>
          <a:p>
            <a:pPr lvl="1" marL="496800" indent="-182520">
              <a:lnSpc>
                <a:spcPct val="80000"/>
              </a:lnSpc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92934"/>
                </a:solidFill>
                <a:latin typeface="Arial"/>
              </a:rPr>
              <a:t>All changes between the 2010 and 2011 editions of the TTCN-3 standard have been covered; tool vendors may validate their implementation of the latest features.</a:t>
            </a:r>
            <a:endParaRPr b="0" lang="en-US" sz="1900" spc="-1" strike="noStrike">
              <a:solidFill>
                <a:srgbClr val="292934"/>
              </a:solidFill>
              <a:latin typeface="Arial"/>
            </a:endParaRPr>
          </a:p>
          <a:p>
            <a:pPr lvl="1" marL="496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292934"/>
              </a:solidFill>
              <a:latin typeface="Arial"/>
            </a:endParaRPr>
          </a:p>
          <a:p>
            <a:pPr marL="222120" indent="-182520">
              <a:lnSpc>
                <a:spcPct val="80000"/>
              </a:lnSpc>
              <a:spcBef>
                <a:spcPts val="601"/>
              </a:spcBef>
              <a:buClr>
                <a:srgbClr val="292934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34"/>
                </a:solidFill>
                <a:latin typeface="Arial"/>
              </a:rPr>
              <a:t>Statistics:</a:t>
            </a:r>
            <a:endParaRPr b="0" lang="en-US" sz="2200" spc="-1" strike="noStrike">
              <a:solidFill>
                <a:srgbClr val="292934"/>
              </a:solidFill>
              <a:latin typeface="Arial"/>
            </a:endParaRPr>
          </a:p>
          <a:p>
            <a:pPr lvl="1" marL="496800" indent="-182520">
              <a:lnSpc>
                <a:spcPct val="80000"/>
              </a:lnSpc>
              <a:spcBef>
                <a:spcPts val="499"/>
              </a:spcBef>
              <a:buClr>
                <a:srgbClr val="292934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92934"/>
                </a:solidFill>
                <a:latin typeface="Arial"/>
              </a:rPr>
              <a:t>Number of positive syntax tests: 138</a:t>
            </a:r>
            <a:endParaRPr b="0" lang="en-US" sz="1900" spc="-1" strike="noStrike">
              <a:solidFill>
                <a:srgbClr val="292934"/>
              </a:solidFill>
              <a:latin typeface="Arial"/>
            </a:endParaRPr>
          </a:p>
          <a:p>
            <a:pPr lvl="1" marL="496800" indent="-182520">
              <a:lnSpc>
                <a:spcPct val="80000"/>
              </a:lnSpc>
              <a:spcBef>
                <a:spcPts val="499"/>
              </a:spcBef>
              <a:buClr>
                <a:srgbClr val="292934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92934"/>
                </a:solidFill>
                <a:latin typeface="Arial"/>
              </a:rPr>
              <a:t>Number of negative syntax tests: 80</a:t>
            </a:r>
            <a:endParaRPr b="0" lang="en-US" sz="1900" spc="-1" strike="noStrike">
              <a:solidFill>
                <a:srgbClr val="292934"/>
              </a:solidFill>
              <a:latin typeface="Arial"/>
            </a:endParaRPr>
          </a:p>
          <a:p>
            <a:pPr lvl="1" marL="496800" indent="-182520">
              <a:lnSpc>
                <a:spcPct val="80000"/>
              </a:lnSpc>
              <a:spcBef>
                <a:spcPts val="499"/>
              </a:spcBef>
              <a:buClr>
                <a:srgbClr val="292934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92934"/>
                </a:solidFill>
                <a:latin typeface="Arial"/>
              </a:rPr>
              <a:t>Number of positive semantic tests: 494</a:t>
            </a:r>
            <a:endParaRPr b="0" lang="en-US" sz="1900" spc="-1" strike="noStrike">
              <a:solidFill>
                <a:srgbClr val="292934"/>
              </a:solidFill>
              <a:latin typeface="Arial"/>
            </a:endParaRPr>
          </a:p>
          <a:p>
            <a:pPr lvl="1" marL="496800" indent="-182520">
              <a:lnSpc>
                <a:spcPct val="80000"/>
              </a:lnSpc>
              <a:spcBef>
                <a:spcPts val="499"/>
              </a:spcBef>
              <a:buClr>
                <a:srgbClr val="292934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92934"/>
                </a:solidFill>
                <a:latin typeface="Arial"/>
              </a:rPr>
              <a:t>Number of negative semantic tests: 327</a:t>
            </a:r>
            <a:endParaRPr b="0" lang="en-US" sz="19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1" name=""/>
          <p:cNvGrpSpPr/>
          <p:nvPr/>
        </p:nvGrpSpPr>
        <p:grpSpPr>
          <a:xfrm>
            <a:off x="0" y="220680"/>
            <a:ext cx="9144000" cy="228600"/>
            <a:chOff x="0" y="220680"/>
            <a:chExt cx="9144000" cy="228600"/>
          </a:xfrm>
        </p:grpSpPr>
        <p:sp>
          <p:nvSpPr>
            <p:cNvPr id="272" name=""/>
            <p:cNvSpPr/>
            <p:nvPr/>
          </p:nvSpPr>
          <p:spPr>
            <a:xfrm>
              <a:off x="0" y="220680"/>
              <a:ext cx="914400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292934"/>
                </a:solidFill>
                <a:latin typeface="Calibri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0" y="220680"/>
              <a:ext cx="9144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292934"/>
                </a:solidFill>
                <a:latin typeface="Calibri"/>
              </a:endParaRPr>
            </a:p>
          </p:txBody>
        </p:sp>
      </p:grpSp>
      <p:grpSp>
        <p:nvGrpSpPr>
          <p:cNvPr id="274" name=""/>
          <p:cNvGrpSpPr/>
          <p:nvPr/>
        </p:nvGrpSpPr>
        <p:grpSpPr>
          <a:xfrm>
            <a:off x="0" y="0"/>
            <a:ext cx="9144000" cy="365040"/>
            <a:chOff x="0" y="0"/>
            <a:chExt cx="9144000" cy="365040"/>
          </a:xfrm>
        </p:grpSpPr>
        <p:sp>
          <p:nvSpPr>
            <p:cNvPr id="275" name=""/>
            <p:cNvSpPr/>
            <p:nvPr/>
          </p:nvSpPr>
          <p:spPr>
            <a:xfrm>
              <a:off x="0" y="0"/>
              <a:ext cx="9144000" cy="365040"/>
            </a:xfrm>
            <a:prstGeom prst="rect">
              <a:avLst/>
            </a:prstGeom>
            <a:solidFill>
              <a:srgbClr val="93a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292934"/>
                </a:solidFill>
                <a:latin typeface="Calibri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0" y="0"/>
              <a:ext cx="914400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292934"/>
                </a:solidFill>
                <a:latin typeface="Calibri"/>
              </a:endParaRPr>
            </a:p>
          </p:txBody>
        </p:sp>
      </p:grpSp>
      <p:sp>
        <p:nvSpPr>
          <p:cNvPr id="277" name=""/>
          <p:cNvSpPr txBox="1"/>
          <p:nvPr/>
        </p:nvSpPr>
        <p:spPr>
          <a:xfrm>
            <a:off x="8005680" y="23760"/>
            <a:ext cx="2937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AD373-C257-4E88-9E29-7D95EA8FBDC3}" type="slidenum">
              <a:rPr b="0" lang="en-US" sz="1400" spc="-1" strike="noStrike">
                <a:solidFill>
                  <a:srgbClr val="ffffff"/>
                </a:solidFill>
                <a:latin typeface="Calibri Bold"/>
                <a:ea typeface="Calibri Bol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Work still ongoing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22212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Wrap-up work to be done: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96800" indent="-182520">
              <a:lnSpc>
                <a:spcPct val="100000"/>
              </a:lnSpc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Arial"/>
              </a:rPr>
              <a:t>Document fine-tuning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lvl="1" marL="496800" indent="-182520">
              <a:lnSpc>
                <a:spcPct val="100000"/>
              </a:lnSpc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Arial"/>
              </a:rPr>
              <a:t>About ~30 test cases left to validated </a:t>
            </a:r>
            <a:br>
              <a:rPr sz="2000"/>
            </a:br>
            <a:r>
              <a:rPr b="0" lang="en-US" sz="2000" spc="-1" strike="noStrike">
                <a:solidFill>
                  <a:srgbClr val="292934"/>
                </a:solidFill>
                <a:latin typeface="Arial"/>
              </a:rPr>
              <a:t>(to be finished this week).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lvl="1" marL="496800" indent="-182520">
              <a:lnSpc>
                <a:spcPct val="100000"/>
              </a:lnSpc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Arial"/>
              </a:rPr>
              <a:t>Quite a lot of time used outside of our contract to check the interpretation of some clauses and ensure the best possible result!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lvl="1" marL="496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22212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ome Mantis issues reported for the conformance test suite are still in new status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96800" indent="-182520">
              <a:lnSpc>
                <a:spcPct val="100000"/>
              </a:lnSpc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Arial"/>
              </a:rPr>
              <a:t>7 raised CRs still have ‘new’ status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0" name=""/>
          <p:cNvGrpSpPr/>
          <p:nvPr/>
        </p:nvGrpSpPr>
        <p:grpSpPr>
          <a:xfrm>
            <a:off x="0" y="220680"/>
            <a:ext cx="9144000" cy="228600"/>
            <a:chOff x="0" y="220680"/>
            <a:chExt cx="9144000" cy="228600"/>
          </a:xfrm>
        </p:grpSpPr>
        <p:sp>
          <p:nvSpPr>
            <p:cNvPr id="281" name=""/>
            <p:cNvSpPr/>
            <p:nvPr/>
          </p:nvSpPr>
          <p:spPr>
            <a:xfrm>
              <a:off x="0" y="220680"/>
              <a:ext cx="914400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292934"/>
                </a:solidFill>
                <a:latin typeface="Calibri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0" y="220680"/>
              <a:ext cx="9144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292934"/>
                </a:solidFill>
                <a:latin typeface="Calibri"/>
              </a:endParaRPr>
            </a:p>
          </p:txBody>
        </p:sp>
      </p:grpSp>
      <p:grpSp>
        <p:nvGrpSpPr>
          <p:cNvPr id="283" name=""/>
          <p:cNvGrpSpPr/>
          <p:nvPr/>
        </p:nvGrpSpPr>
        <p:grpSpPr>
          <a:xfrm>
            <a:off x="0" y="0"/>
            <a:ext cx="9144000" cy="365040"/>
            <a:chOff x="0" y="0"/>
            <a:chExt cx="9144000" cy="365040"/>
          </a:xfrm>
        </p:grpSpPr>
        <p:sp>
          <p:nvSpPr>
            <p:cNvPr id="284" name=""/>
            <p:cNvSpPr/>
            <p:nvPr/>
          </p:nvSpPr>
          <p:spPr>
            <a:xfrm>
              <a:off x="0" y="0"/>
              <a:ext cx="9144000" cy="365040"/>
            </a:xfrm>
            <a:prstGeom prst="rect">
              <a:avLst/>
            </a:prstGeom>
            <a:solidFill>
              <a:srgbClr val="93a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292934"/>
                </a:solidFill>
                <a:latin typeface="Calibri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0" y="0"/>
              <a:ext cx="914400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292934"/>
                </a:solidFill>
                <a:latin typeface="Calibri"/>
              </a:endParaRPr>
            </a:p>
          </p:txBody>
        </p:sp>
      </p:grpSp>
      <p:sp>
        <p:nvSpPr>
          <p:cNvPr id="286" name=""/>
          <p:cNvSpPr txBox="1"/>
          <p:nvPr/>
        </p:nvSpPr>
        <p:spPr>
          <a:xfrm>
            <a:off x="8005680" y="23760"/>
            <a:ext cx="2937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1CDEB-13A3-4B84-8AC9-E58F351C1835}" type="slidenum">
              <a:rPr b="0" lang="en-US" sz="1400" spc="-1" strike="noStrike">
                <a:solidFill>
                  <a:srgbClr val="ffffff"/>
                </a:solidFill>
                <a:latin typeface="Calibri Bold"/>
                <a:ea typeface="Calibri Bol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Issues reported as CRs (1/3)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22212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A number of issues have been reported by raising CRs as a result of test case development and email discussions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22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22212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est cases with pending clarifications have been excluded from the delivered ATS (moved to a special on-hold directory)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22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22212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otal of 12 CRs written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96800" indent="-182520">
              <a:lnSpc>
                <a:spcPct val="100000"/>
              </a:lnSpc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Arial"/>
              </a:rPr>
              <a:t>CR numbers: 5954, 5955, 5956, 5958, 5959, 5961, 5963, 5977, 5987, 5988, 5995, 6009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9" name=""/>
          <p:cNvGrpSpPr/>
          <p:nvPr/>
        </p:nvGrpSpPr>
        <p:grpSpPr>
          <a:xfrm>
            <a:off x="0" y="220680"/>
            <a:ext cx="9144000" cy="228600"/>
            <a:chOff x="0" y="220680"/>
            <a:chExt cx="9144000" cy="228600"/>
          </a:xfrm>
        </p:grpSpPr>
        <p:sp>
          <p:nvSpPr>
            <p:cNvPr id="290" name=""/>
            <p:cNvSpPr/>
            <p:nvPr/>
          </p:nvSpPr>
          <p:spPr>
            <a:xfrm>
              <a:off x="0" y="220680"/>
              <a:ext cx="914400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292934"/>
                </a:solidFill>
                <a:latin typeface="Calibri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0" y="220680"/>
              <a:ext cx="9144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292934"/>
                </a:solidFill>
                <a:latin typeface="Calibri"/>
              </a:endParaRPr>
            </a:p>
          </p:txBody>
        </p:sp>
      </p:grpSp>
      <p:grpSp>
        <p:nvGrpSpPr>
          <p:cNvPr id="292" name=""/>
          <p:cNvGrpSpPr/>
          <p:nvPr/>
        </p:nvGrpSpPr>
        <p:grpSpPr>
          <a:xfrm>
            <a:off x="0" y="0"/>
            <a:ext cx="9144000" cy="365040"/>
            <a:chOff x="0" y="0"/>
            <a:chExt cx="9144000" cy="365040"/>
          </a:xfrm>
        </p:grpSpPr>
        <p:sp>
          <p:nvSpPr>
            <p:cNvPr id="293" name=""/>
            <p:cNvSpPr/>
            <p:nvPr/>
          </p:nvSpPr>
          <p:spPr>
            <a:xfrm>
              <a:off x="0" y="0"/>
              <a:ext cx="9144000" cy="365040"/>
            </a:xfrm>
            <a:prstGeom prst="rect">
              <a:avLst/>
            </a:prstGeom>
            <a:solidFill>
              <a:srgbClr val="93a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292934"/>
                </a:solidFill>
                <a:latin typeface="Calibri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0" y="0"/>
              <a:ext cx="914400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292934"/>
                </a:solidFill>
                <a:latin typeface="Calibri"/>
              </a:endParaRPr>
            </a:p>
          </p:txBody>
        </p:sp>
      </p:grpSp>
      <p:sp>
        <p:nvSpPr>
          <p:cNvPr id="295" name=""/>
          <p:cNvSpPr txBox="1"/>
          <p:nvPr/>
        </p:nvSpPr>
        <p:spPr>
          <a:xfrm>
            <a:off x="8005680" y="23760"/>
            <a:ext cx="2937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97FA6-88DD-421B-8624-B4F70F9A9D1D}" type="slidenum">
              <a:rPr b="0" lang="en-US" sz="1400" spc="-1" strike="noStrike">
                <a:solidFill>
                  <a:srgbClr val="ffffff"/>
                </a:solidFill>
                <a:latin typeface="Calibri Bold"/>
                <a:ea typeface="Calibri Bol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onclusion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22212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Wrap up work will be finished by end of January.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lvl="1" marL="496800" indent="-182520">
              <a:lnSpc>
                <a:spcPct val="100000"/>
              </a:lnSpc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Draft deliverable is available for commenting already now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lvl="1" marL="496800" indent="-182520">
              <a:lnSpc>
                <a:spcPct val="100000"/>
              </a:lnSpc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Final results will be published after end of January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22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22212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Special thanks to Elvior and TestingTech for the active tool support, which made the continuous validation of results possible.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bzeiss</dc:creator>
  <dc:description/>
  <dc:language>en-US</dc:language>
  <cp:lastModifiedBy/>
  <cp:revision>0</cp:revision>
  <dc:subject/>
  <dc:title>TTCN-3 Conformance Test Suite STF 409 Status Report</dc:title>
</cp:coreProperties>
</file>